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74D-2802-4723-BF35-71651C22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889-9DE0-46C5-A8F5-BF22B06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E71-A513-479A-A5A9-2942AB93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6A6-6FA2-4B85-99C7-9B7F1148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F16-B5F4-4E2D-B5BF-42F127D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79-7878-4122-ACB2-F6EA948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CC7-24A0-4583-9847-F5B1783C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F4C-BD77-42E9-8282-40DF9B6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866-D349-4F8F-A6CE-8AFC1C7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CAE-0F89-4538-9191-4B0AC69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26B-0864-40DE-AA03-3B49540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343-BF98-4C27-8F7C-6F93408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121-A8BE-4B03-A30A-43B7FD591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33400">
            <a:off x="-612720" y="1844280"/>
            <a:ext cx="91440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aur egungo etorkin latinoamerikarr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4:26Z</dcterms:created>
  <dc:creator>ik015111zz</dc:creator>
  <dc:description/>
  <dc:language>en-US</dc:language>
  <cp:lastModifiedBy>ik015111zz</cp:lastModifiedBy>
  <dcterms:modified xsi:type="dcterms:W3CDTF">2012-05-10T13:20:24Z</dcterms:modified>
  <cp:revision>2</cp:revision>
  <dc:subject/>
  <dc:title>Diapositiva 1</dc:title>
</cp:coreProperties>
</file>